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6DF-3449-4BD5-A1F1-13521DBA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F30-946F-47F7-824F-A91F730E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692-325D-4DA5-B9D2-43B37072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C49-6D63-4D5D-BAFA-F5506D86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B76-670A-4619-8D6F-47DDEB1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6F8-FD3A-41CE-8D65-90FAE64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80E-B830-4DBC-84A1-80DF100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E2F-10EC-4456-99CB-48C6D912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48E-92F6-4934-9FC4-6A183A10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851-C5B6-44B9-AFA9-7CF786B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997-CCF1-402E-A88E-7F831DD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F47-518B-4817-8DE2-7A1B4B6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3A2-FAC7-4712-B6E2-1131927B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rmones That Affect Blood Suga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&amp; Reproductive Horm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 &amp;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rty in 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rel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nadotropin-releasing hormone (Gn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s the anterior pituitary to relea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icle-stimulating hormone (FSH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uteinizing hormone (L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 acts on seminiferous tubules to increase sperm-production;  LH acts on interstitial cells to produce 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in Mal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medscape.com/viewarticle/721069_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868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webmd.com/infertility-and-reproduction/guide/female-reproductive-system-over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Cycl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all-nurses.blogspot.com/2011/05/menstrual-cycle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rel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terior pituitary to relea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 acts on ovaries and causes follicula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icle rel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uses thickening of uterine wall and feeds back to inhibit FSH rele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73280" y="609480"/>
            <a:ext cx="399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vhs.nbed.nb.ca/gallant/biology/biolog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14480" y="1066680"/>
            <a:ext cx="351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lm.nih.gov/medlineplus/ency/imagepages/888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ets of Langerhan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health.howstuffworks.com/diseases-conditions/diabetes/diabetes1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cells in the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4680" y="1981080"/>
            <a:ext cx="319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Blood Sugar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tattoo12.co.gp/keyword/glucose%20lev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71600" y="1981080"/>
            <a:ext cx="46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roduction or use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insulin, blood sugar levels rise quickly after eating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glyc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glucose is eliminated in urine, body uses protein &amp; fat as energ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images.yourdictionary.com/adrenal-g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medulla produces adrenaline and noradrena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cortex produces 3 different types of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hormones designed to keep blood glucose levels high (in times of st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eralocortic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hormones that regulate salt-water balance (such as ald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getceusnow.com/human_sexuality/penis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25600" y="19810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1-06-03T14:59:42Z</dcterms:modified>
  <cp:revision>60</cp:revision>
  <dc:subject/>
  <dc:title>Hormones that Affect Blood Sugar  &amp; Reproductive Hormones</dc:title>
</cp:coreProperties>
</file>